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729-B513-442D-8523-831A84BC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E8F-D0FF-4787-80A4-865007DF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A0C-08D3-4CF5-81B3-53DEF86D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6A7-0815-478A-A252-B7E7D947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32F9-A5B1-4155-8AE0-5C11E69E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A1B9-D959-432C-A19C-29607148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7649-E0A1-4294-89B6-477D8C72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E6AD-8320-435D-A661-3897CF01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2492-895F-4CB4-B5D8-CAE1FD8D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0FC1-8EC0-4099-A488-896FCAEF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C9C9-D98D-4C92-ACBE-1FF6F211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11A-8717-4F0D-ACDF-504F0B36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9C5C-A328-4ABF-8CD8-501E7532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70DF-FC0C-483B-8DFE-BE104B42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012E-2937-468B-8617-F9428576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13EC-BF16-4F8E-928F-541F0D8F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AE07-DEFD-4EC5-83C1-80896350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97A41-2CD0-4540-B8D7-DF869F60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2239A-C865-431A-A62C-6F4BBFE5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2C62B-D622-4CD5-808E-6086C98D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7C43D-4563-4B18-B14E-3843E565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DA629-411B-41B4-8EA8-9260D8B5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0A9-DB51-47AA-B8CD-6BF73A48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33B0C-383B-4AFA-8A6D-1AEB0365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88113-FFAE-4021-831E-67C3E36E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92C7B-2A9C-48D9-A380-4239D676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4C376-48EE-4542-8AD1-E22B7FAF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DBFED-8644-47D2-9423-051EEFB7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ED851-0C2F-4B34-9D35-85087F82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B9199-5FC6-4A8D-BFBC-4FD6A944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2319D-49E6-407A-8AB6-D60A669B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149EF-89E5-4766-BADA-5D02E287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C5C9F-7FA5-48BF-BBF3-6C10D9B8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1B93-8192-4D01-A505-DF25A670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3799F-6580-4715-8091-35EE9089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2E270-BF5A-4B63-AED9-C3731767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8EBB6-80FF-4D56-B0D6-008CF594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E509A-8002-43CC-86F7-2DD0B78E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EB055-7680-4A0B-B23E-12DF2CB9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D293D-B563-410F-9BD7-02747A40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D0039-BA7C-4C1C-8CE1-5E425FE5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E43EA-A75E-47BF-8B68-E4B7A092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74005-9499-4504-950F-6FC3F424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0C45C-A418-4456-BA85-AD1B7A78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685E-332F-48A1-947B-A795B2EE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4AD80-6153-4822-9C51-EFD8FBB6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136E4-5B9C-475C-8FC8-4EC6FE95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1E607-58DF-4332-8A6E-B42C0757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22E54-EB06-4BE1-A27F-9942E4CA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157BE-0E17-49E0-BA1F-85977EA8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4DAFE-269C-4C25-BD5B-F7291B84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D1712-8062-42CE-AD2A-6766F669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56EAA-4F2C-4A36-9B3F-C8D04A2E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EA2D1-6BD8-43B3-8F28-FF4C9C94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C0507-CCC5-4B9D-BFC5-55E8DCAE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C662-8310-410D-9ABC-EAFB3E49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C60E4-4954-401B-8D17-E62320A1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530CA-7999-4500-9C50-245DAAE5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4CA66-0C08-495F-85CC-EC7B74A4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20A58-3E4E-46E5-A820-C94565E2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BD375-889B-4481-9BED-371BC1B1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EC3B4-F4C9-4E30-83A5-EB080E93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F7269-FA4F-42A0-882D-599EEA72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DD7F0-D72A-46A3-AF90-7ACF40C4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6CA6D-5E54-457E-BEC8-3688FF72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4F59A-0F21-4A64-81EA-150C97EC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412D-DD22-4661-ACBA-F5CD14F5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F85CB-2A08-4DCC-B319-17CD3E20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E81C9-CC2B-4ED9-9086-2AC226EF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C8887-A8B1-4FD5-BD66-B11F1598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6BA97-FF79-4F60-9C09-D24D22BC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69B9B-A077-483B-8330-51081390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C00C5-19EE-4276-92D7-151AD20A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BC9F0-45A3-4A9F-8E52-944B8FE9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3AB6B-B53A-41D5-A73E-B8603E7B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41E7C-C1DB-4D9E-9E95-A9806B49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DEA3F-C459-4358-8D94-1C4DBF9A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5AF-9D4D-4E5D-A307-3485EE9A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C05BE-A009-4041-8DE5-B2A3D525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994F9-6401-4950-A624-9EF7BB60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93CE2-CE69-4885-ADC4-4E4D23FE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CA1DC-535A-4271-A6C6-8C9179D4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152E1-DD09-467C-B279-8AA761C1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D1B-B9C8-48F4-8554-FF88701A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uorakulmi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uorakulmi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uorakulmi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Suorakulmi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Suorakulmi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Suorakulmi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Suorakulmi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Suorakulmi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uorakulmi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3F3A-46A0-4DA7-B3BE-1A87F8742013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uorakulmio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uorakulmio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uorakulmio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Suorakulmio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Suorakulmio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Suorakulmio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uorakulmio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uorakulmio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Suorakulmio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52B6-E7BB-4C85-84F5-63DED41499C0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uorakulmi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uorakulmi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uorakulmi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Suorakulmi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Suorakulmi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uorakulmi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uorakulmi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uorakulmi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uorakulmi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uolivapaa piirto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uolivapaa piirto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uolivapaa piirto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uolivapaa piirto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uolivapaa piirto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uolivapaa piirto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uolivapaa piirto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uolivapaa piirto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uolivapaa piirto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uolivapaa piirto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uolivapaa piirto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uolivapaa piirto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uolivapaa piirto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uolivapaa piirto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uolivapaa piirto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uorakulmio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Suorakulmio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uorakulmio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uorakulmio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uorakulmio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uorakulmio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9382-7413-471F-A794-EBA203D47C36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E3CA-98B9-4623-B602-0AB6FCFAD38F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uorakulmio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Suorakulmio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uorakulmio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Suorakulmio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Suorakulmio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uorakulmio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Suorakulmio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uorakulmio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uorakulmio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Suorakulmio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DC96-71AB-4775-82B4-9675C95171C5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FA9D-5214-4AB1-9B6B-287B3823CBC3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uorakulmi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Suorakulmi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uorakulmi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uorakulmi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Suorakulmi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Suorakulmi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Suorakulmi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Suorakulmi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Suorakulmi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Suorakulmio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uora yhdysviiva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Ryhmä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uora yhdysviiva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uora yhdysviiva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uora yhdysviiva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Ryhmä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uora yhdysviiva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uora yhdysviiva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uora yhdysviiva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Ryhmä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uora yhdysviiva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uora yhdysviiva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uora yhdysviiva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D429-11D0-4C46-9805-F9C0F724392E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oimari.com/" TargetMode="External"/><Relationship Id="rId3" Type="http://schemas.openxmlformats.org/officeDocument/2006/relationships/hyperlink" Target="http://toimari.com/" TargetMode="External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c1eeff"/>
                </a:solidFill>
                <a:latin typeface="Consolas"/>
              </a:rPr>
              <a:t>Hyvinkää Toimar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69" name="Picture 2" descr="C:\Users\sannaku\Pictures\TOPO\P11601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Tekstikehys 4"/>
          <p:cNvSpPr/>
          <p:nvPr/>
        </p:nvSpPr>
        <p:spPr>
          <a:xfrm>
            <a:off x="611280" y="1628640"/>
            <a:ext cx="2089080" cy="1200600"/>
          </a:xfrm>
          <a:prstGeom prst="rect">
            <a:avLst/>
          </a:prstGeom>
          <a:solidFill>
            <a:srgbClr val="00addc"/>
          </a:solidFill>
          <a:ln w="19080">
            <a:solidFill>
              <a:srgbClr val="007e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Hyvinkää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Toima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Yhdistys tarjoaa asuntola ja tukiasuntotoimintaa, päiväkeskus j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3" name="Picture 2" descr="C:\Users\sannaku\Pictures\TOPO\P1160156.JPG"/>
          <p:cNvPicPr/>
          <p:nvPr/>
        </p:nvPicPr>
        <p:blipFill>
          <a:blip r:embed="rId1"/>
          <a:stretch/>
        </p:blipFill>
        <p:spPr>
          <a:xfrm>
            <a:off x="4500720" y="1844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Ensisuojapalveluit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Opiskelijan toivotaan suorittavan vähintään yhden vuoron ensisuojass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6" name="Picture 3" descr="C:\Users\sannaku\Pictures\TOPO\P1160129.JPG"/>
          <p:cNvPicPr/>
          <p:nvPr/>
        </p:nvPicPr>
        <p:blipFill>
          <a:blip r:embed="rId1"/>
          <a:stretch/>
        </p:blipFill>
        <p:spPr>
          <a:xfrm>
            <a:off x="4572000" y="1844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Lähihoitajan työtehtävä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Arjessa tukemine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Asiointiap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Hoidolliset toimet (lääkkeet, haavat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virkistystoimint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Picture 2" descr="C:\Users\sannaku\Pictures\TOPO\P1160162.JPG"/>
          <p:cNvPicPr/>
          <p:nvPr/>
        </p:nvPicPr>
        <p:blipFill>
          <a:blip r:embed="rId1"/>
          <a:stretch/>
        </p:blipFill>
        <p:spPr>
          <a:xfrm>
            <a:off x="4643280" y="1989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Opiskelijalta toivotaa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Omatoimisuu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Rohkeu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Huumorintaj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Erilaisuuden sieto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Ymmärry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2" name="Picture 3" descr="C:\Users\sannaku\Pictures\TOPO\P1160141.JPG"/>
          <p:cNvPicPr/>
          <p:nvPr/>
        </p:nvPicPr>
        <p:blipFill>
          <a:blip r:embed="rId1"/>
          <a:stretch/>
        </p:blipFill>
        <p:spPr>
          <a:xfrm>
            <a:off x="4643280" y="191628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4" name="Picture 2" descr="C:\Users\sannaku\Pictures\TOPO\P1160139.JPG"/>
          <p:cNvPicPr/>
          <p:nvPr/>
        </p:nvPicPr>
        <p:blipFill>
          <a:blip r:embed="rId1"/>
          <a:stretch/>
        </p:blipFill>
        <p:spPr>
          <a:xfrm>
            <a:off x="826920" y="162864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Yhteydenoto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Anne Jormalaine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040 7495034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Corbel"/>
              </a:rPr>
              <a:t>anne.jormalainen@toimari.com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1:06:21Z</dcterms:created>
  <dc:creator>sannaku</dc:creator>
  <dc:description/>
  <dc:language>en-US</dc:language>
  <cp:lastModifiedBy>sannaku</cp:lastModifiedBy>
  <dcterms:modified xsi:type="dcterms:W3CDTF">2010-11-23T14:04:49Z</dcterms:modified>
  <cp:revision>10</cp:revision>
  <dc:subject/>
  <dc:title>Hyvinkää Toimari</dc:title>
</cp:coreProperties>
</file>